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12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A0F-D612-43F2-9FF1-44DC5E10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7B6-D8AD-4052-BD4A-AC196B36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A5A-FEAD-4801-9E1F-9E27FBE4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738-30AE-43AA-A5DE-46C3AAA2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66F7-2A80-4E34-ABAE-9D773670F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D7C7-CA5D-4005-B88D-E26E93C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68CF-8B74-4F6A-A06D-8A653EAF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7EA7-917B-4286-970D-274744A6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3C6A-5955-4767-BCF6-7D4C1764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9DEC-7A1E-459E-8BCC-6DBBECA6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686E-B4C9-4169-A516-582AE39D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565-E3C4-4546-9827-F5E67278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69EF-E303-4156-A036-EF62924F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251E-B1E7-475F-9144-B6DF47B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39E8-BDB3-4381-A847-14FEDF3B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FDAA-D401-4CA7-AABD-7D097CA1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98E2-4614-4DB3-A16D-446A6599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CA3-9959-462C-B491-F719EC4E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5CF-D315-4DA0-8489-B8A55B06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5C7-D53D-45DA-98C5-44FCB226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BA5-0A3A-4BB1-B660-62DC4C5F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CAD3-D007-4D66-B67F-AD6F01A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1AC-F5FA-47D8-80F7-784526F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07F-6821-4E70-801E-75A2929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E402-B63F-4E94-8D70-427DD9EFDC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0FC8-5782-42BD-8720-324C59BFF6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kathy.pbwiki.com/" TargetMode="External"/><Relationship Id="rId2" Type="http://schemas.openxmlformats.org/officeDocument/2006/relationships/hyperlink" Target="http://sites.google.com/site/teacherjoefsmh/7th-grade-english-page" TargetMode="External"/><Relationship Id="rId3" Type="http://schemas.openxmlformats.org/officeDocument/2006/relationships/hyperlink" Target="http://sites.google.com/site/teacherjoefsmh/7th-grade-english-page" TargetMode="External"/><Relationship Id="rId4" Type="http://schemas.openxmlformats.org/officeDocument/2006/relationships/hyperlink" Target="http://sites.google.com/site/teacherjoefsmh/7th-grade-english-page" TargetMode="External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000"/>
            <a:ext cx="77724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riends School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ullica Hill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81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P Project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ture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2296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e a Virtual Learning Community (VLC) for Leadership Team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41972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tinuing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ology Evaluation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724280" y="167652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early teacher self-assessment of their computer literacy and grow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chers will add a technology goal to their yearly professional growth pl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1160" y="1600200"/>
            <a:ext cx="3129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tinuing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wth and Support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572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chers will share their projects and activities in division meetings and full faculty meet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3415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tinuing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owth and Support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00600" y="18288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TEC Committee will help facilitate teachers’ technology goals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 the 21</a:t>
            </a:r>
            <a:r>
              <a:rPr b="0" lang="en-US" sz="4400" spc="-1" strike="noStrike" baseline="30000">
                <a:solidFill>
                  <a:srgbClr val="ccec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Century and Beyo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Buzz Lightyear and the words 'To Infinity and Beyond!'"/>
          <p:cNvPicPr/>
          <p:nvPr/>
        </p:nvPicPr>
        <p:blipFill>
          <a:blip r:embed="rId2"/>
          <a:stretch/>
        </p:blipFill>
        <p:spPr>
          <a:xfrm>
            <a:off x="838080" y="1125360"/>
            <a:ext cx="762012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LP Project Goa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odel and encourage the use of 21st Century skills and digital technolo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support our teachers in the implementation of the Web 2.0 tools in their classroom by  provi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pdated equipme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fessional develop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enable our teachers to develop a curriculum which includes skills students will need for the 21st Century and beyond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Evaluate and provide a wish list for technology equip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5105520" cy="2766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2743200" cy="2249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05720" y="1981080"/>
            <a:ext cx="2438280" cy="1067040"/>
          </a:xfrm>
          <a:prstGeom prst="leftArrow">
            <a:avLst>
              <a:gd name="adj1" fmla="val 50000"/>
              <a:gd name="adj2" fmla="val 5712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 Equip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952880"/>
            <a:ext cx="2652480" cy="1219320"/>
          </a:xfrm>
          <a:prstGeom prst="rightArrow">
            <a:avLst>
              <a:gd name="adj1" fmla="val 50000"/>
              <a:gd name="adj2" fmla="val 5438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51055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51814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ture Computer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Technology Initiativ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aluate faculty’s computer litera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velop Web 2.0 tools and basic skills workshops to support faculty memb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53160" y="2514600"/>
            <a:ext cx="4290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0"/>
          <a:ext cx="8431200" cy="77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431200" cy="77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urrent Technology Initiativ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vide faculty support for posting blogs on teacher pages on our new school websi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Second Grade Class Wi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Teacher Joe'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iGoogl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Si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ture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 a Technology Exploring and Cheerleading Committee (TECC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3048120" cy="24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ture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 a new Accepted Use Policy (AUP) that addresses social network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119840" cy="457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15238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iends School Mullica Hill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ture Technology Initiativ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pdate the technology curriculum to include social networking skills and Web 2.0 too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4167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38:35Z</dcterms:created>
  <dc:creator>ksaia</dc:creator>
  <dc:description/>
  <dc:language>en-US</dc:language>
  <cp:lastModifiedBy>nicole</cp:lastModifiedBy>
  <dcterms:modified xsi:type="dcterms:W3CDTF">2009-04-01T16:08:30Z</dcterms:modified>
  <cp:revision>32</cp:revision>
  <dc:subject/>
  <dc:title>Friends School Mullica Hill </dc:title>
</cp:coreProperties>
</file>